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A64-A373-44BD-AEFA-4869CBF6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8BB-58B0-4464-AC6D-9BAC5B90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F29-B813-4BD3-BE9F-7B3D15F2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F3A-4F7F-494B-8CF8-5A63F72B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8DA-6CFD-4745-820F-92FC30B1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CC1-817F-4285-87CE-8B7857BA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A72-DCD7-4814-862A-5276953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DDA-26E6-4054-A4E5-B85F0843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96A-08CD-4165-B3C7-9BCC026B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083-8638-43BC-B213-C9AA7F0A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2BB-7110-4A32-BD47-3ADC7446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28D-1C95-4519-B3C2-7F22D11E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CD6C-1DE0-49E1-91DF-5453F6A5E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empus Sans ITC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Tempus Sans ITC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Power is divided between national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dym itry"/>
          <p:cNvPicPr/>
          <p:nvPr/>
        </p:nvPicPr>
        <p:blipFill>
          <a:blip r:embed="rId1"/>
          <a:stretch/>
        </p:blipFill>
        <p:spPr>
          <a:xfrm>
            <a:off x="4876920" y="3886200"/>
            <a:ext cx="22622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vladimeer"/>
          <p:cNvPicPr/>
          <p:nvPr/>
        </p:nvPicPr>
        <p:blipFill>
          <a:blip r:embed="rId2"/>
          <a:stretch/>
        </p:blipFill>
        <p:spPr>
          <a:xfrm>
            <a:off x="1154160" y="3886200"/>
            <a:ext cx="148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Tempus Sans ITC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Higher prices make it harder to buy necessities, like food and clothes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ubarctoic.jpg"/>
          <p:cNvPicPr/>
          <p:nvPr/>
        </p:nvPicPr>
        <p:blipFill>
          <a:blip r:embed="rId3"/>
          <a:stretch/>
        </p:blipFill>
        <p:spPr>
          <a:xfrm>
            <a:off x="533520" y="419112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empus Sans ITC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Tempus Sans ITC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empus Sans ITC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Tempus Sans ITC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empus Sans ITC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Tempus Sans ITC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empus Sans ITC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nhaler.jpg"/>
          <p:cNvPicPr/>
          <p:nvPr/>
        </p:nvPicPr>
        <p:blipFill>
          <a:blip r:embed="rId1"/>
          <a:stretch/>
        </p:blipFill>
        <p:spPr>
          <a:xfrm rot="727200">
            <a:off x="5937120" y="40672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182240" y="41497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skates"/>
          <p:cNvPicPr/>
          <p:nvPr/>
        </p:nvPicPr>
        <p:blipFill>
          <a:blip r:embed="rId1"/>
          <a:stretch/>
        </p:blipFill>
        <p:spPr>
          <a:xfrm>
            <a:off x="4648320" y="5210280"/>
            <a:ext cx="1752480" cy="164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tent"/>
          <p:cNvPicPr/>
          <p:nvPr/>
        </p:nvPicPr>
        <p:blipFill>
          <a:blip r:embed="rId2"/>
          <a:stretch/>
        </p:blipFill>
        <p:spPr>
          <a:xfrm>
            <a:off x="2819520" y="5486400"/>
            <a:ext cx="1533240" cy="950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Tempus Sans ITC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Russians enjoy, hiking, 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Also enjoy skiing, skating, and playing ice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occer ball.jpg"/>
          <p:cNvPicPr/>
          <p:nvPr/>
        </p:nvPicPr>
        <p:blipFill>
          <a:blip r:embed="rId3"/>
          <a:stretch/>
        </p:blipFill>
        <p:spPr>
          <a:xfrm>
            <a:off x="533520" y="4724280"/>
            <a:ext cx="1838160" cy="1838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4467240" y="391176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empus Sans IT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In rural areas most people live in woo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Suburbs are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75% of people live in c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t"/>
          <p:cNvPicPr/>
          <p:nvPr/>
        </p:nvPicPr>
        <p:blipFill>
          <a:blip r:embed="rId1"/>
          <a:stretch/>
        </p:blipFill>
        <p:spPr>
          <a:xfrm>
            <a:off x="5257800" y="5054760"/>
            <a:ext cx="22096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michael buzzell</dc:creator>
  <dc:description/>
  <dc:language>en-US</dc:language>
  <cp:lastModifiedBy>michael buzzell</cp:lastModifiedBy>
  <dcterms:modified xsi:type="dcterms:W3CDTF">2010-12-19T14:04:31Z</dcterms:modified>
  <cp:revision>14</cp:revision>
  <dc:subject/>
  <dc:title>Present Day Russia</dc:title>
</cp:coreProperties>
</file>